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CE2-FAFC-48D5-940D-1C52F2EC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977F-4FB2-4AAA-9D16-38850C89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ndasthumb.org/archives/2015/03/if-you-follow-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pubudu/genomics (from slideshow made by: Wayamba University Sri Lan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4051-BD3B-4720-B592-C88DE199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5936-7D17-4F52-9782-F8B25B27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0A6B-217D-40B0-B16A-25EF0F5D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AB1-6E7F-4377-BA67-61AE8BB3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D2F3-D5CD-4753-B48D-A21BEBD5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genomics.ca/media-centre/news/2011-9-07/6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2011 campaign to increase awareness of genomics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864-AC2A-4A61-A86A-68ABB651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B7CA-C27C-41A1-8560-B00ECEB3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from: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http://ghr.nlm.nih.gov/handbook/hgp/genome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B1E5-2A61-4AF3-B552-DC297515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231663/The%20Human%20Genome%20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F4F-0E7B-4FDD-ACFC-533ACD1F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.gurukpo.com/human-genome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1DF6-710B-44A0-B63E-A5BFFE5C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bus.gsu.edu/1animal/animalmo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D704-4790-4387-AE73-D92634D6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F46-04D7-4F84-BBCF-4CEE0B6E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from viru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B90-E405-494A-B96D-6E59F7C2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A98F-2651-49D4-BBC6-E844A7093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C04-25C3-4FD8-AD85-2EDB0860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E65-8537-4FA8-887F-6264F982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1B9-A39C-4BE2-97C2-010644B2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B38-FC49-43CA-8D06-E7702C2F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2F1-276C-477B-8181-F17BBE05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A80-38E6-4D1C-9B95-DF3170C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7B7-8368-4B37-B36C-192AD2E7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76F-2667-4C08-885F-4A53D648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579-6D68-4583-94B3-5215436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7CF-1679-47C8-917A-3D03CC31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C4A-ECEF-42FB-94F3-3A9C7D4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FE0-C804-4664-904B-40586E0F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3799-A634-4252-B18A-A4AAF9B17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lobeandmail.com/report-on-business/toronto-startup-aims-to-shake-up-genome-sequencing-market/article25612065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2204640"/>
            <a:ext cx="590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s &amp; Gene Organization (7.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genomics-83-728.jpg"/>
          <p:cNvPicPr/>
          <p:nvPr/>
        </p:nvPicPr>
        <p:blipFill>
          <a:blip r:embed="rId1"/>
          <a:srcRect l="-3447" t="0" r="-3447" b="0"/>
          <a:stretch/>
        </p:blipFill>
        <p:spPr>
          <a:xfrm>
            <a:off x="755640" y="692280"/>
            <a:ext cx="77025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Genomics 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private, not-for-profit corporation focused on using world class research to create strategic genomics resources and accelerate Ontari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development of a globally competitive life sciences sector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ntariogenomics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ANCER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UNGER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OILSPILLS"/>
          <p:cNvPicPr/>
          <p:nvPr/>
        </p:nvPicPr>
        <p:blipFill>
          <a:blip r:embed="rId1"/>
          <a:stretch/>
        </p:blipFill>
        <p:spPr>
          <a:xfrm>
            <a:off x="2739960" y="609480"/>
            <a:ext cx="366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News in 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Globe &amp; Mail in July 2015, there was an article about a recent startup in Toronto called Deep Genomics started by a U of T computer scientist.  Diagnosing your DNA for personalized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article onlin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gen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s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plete set of DNA, including all of its gene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enome_project_cartoon"/>
          <p:cNvPicPr/>
          <p:nvPr/>
        </p:nvPicPr>
        <p:blipFill>
          <a:blip r:embed="rId1"/>
          <a:stretch/>
        </p:blipFill>
        <p:spPr>
          <a:xfrm>
            <a:off x="1565280" y="1981080"/>
            <a:ext cx="601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3886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entire human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location &amp; structure of many g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genome of other organisms (including yeast, roundworm, fruit f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1" descr="metal-gear-solid-human-genome-project-big"/>
          <p:cNvPicPr/>
          <p:nvPr/>
        </p:nvPicPr>
        <p:blipFill>
          <a:blip r:embed="rId1"/>
          <a:stretch/>
        </p:blipFill>
        <p:spPr>
          <a:xfrm>
            <a:off x="4648320" y="1892160"/>
            <a:ext cx="38098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nimaldiv1"/>
          <p:cNvPicPr/>
          <p:nvPr/>
        </p:nvPicPr>
        <p:blipFill>
          <a:blip r:embed="rId1"/>
          <a:stretch/>
        </p:blipFill>
        <p:spPr>
          <a:xfrm>
            <a:off x="971640" y="1981080"/>
            <a:ext cx="720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genomes ar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geno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2% codes fo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% is in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is between the genes (50% of total is non-func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 in the non-coding DN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 number tandem repeats (VNTR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icro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s (long interspersed nuclear elements); about 6500 bp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Es (short interspersed nuclear elements); about 500 bp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s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ransposable elements) are small sequences of DNA that can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eud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to existing genes (mutated versions of ancestral gen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size co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mmal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300x larger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but almost the same number of genes i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of organisms is more likely relat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ganization &amp; re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ther than the size of the 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3:37:16Z</dcterms:created>
  <dc:creator>rubina khan</dc:creator>
  <dc:description/>
  <dc:language>en-US</dc:language>
  <cp:lastModifiedBy>rubina khan</cp:lastModifiedBy>
  <dcterms:modified xsi:type="dcterms:W3CDTF">2017-04-06T14:01:27Z</dcterms:modified>
  <cp:revision>63</cp:revision>
  <dc:subject/>
  <dc:title>PowerPoint Presentation</dc:title>
</cp:coreProperties>
</file>